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9B2-3524-4FEF-8160-CABC4ACE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9C6-13AA-48FD-B2E4-7D4D5822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30F-5014-467F-8DE5-E3A9CCD5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804-F3A7-40D1-BDCB-12270027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37AE-CE7B-48B0-92BE-8C5E849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E8E3-A805-4105-A125-5190F6D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5D7-DAAE-4C1E-BDF9-207FC448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AD8-6873-4552-8A6F-AB97C54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CA0-B9A4-4CE1-B9C5-C35DF3A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9C3E-11E7-4660-8CB9-6B67E78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822-EAF1-4260-AB73-38BD12D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0E1-3DBE-438F-939A-845D398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69F4-8E7E-4468-A7F7-F580D35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8E2-27CC-4338-B73D-B8338F4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8D35-A36E-4103-916C-170F7294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3408-6EAA-4DBA-A509-05707CB7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79A8-81DD-434E-8216-D8FB384D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5EDB-60C0-4E10-8EF3-9B98350B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B84D-8998-445D-A736-FCDFD69F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B331-F885-4F95-9AED-76CF733B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B7B4-5D30-4A0D-86BD-E5C42A6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A843-370F-4DD2-9036-C190CD7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43C-87A2-4B02-BADB-7BC9FB0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5497-F032-45DE-9B98-07F220AE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7537-F7EF-471E-A68A-4AF7AFE5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3F65-7329-4059-AF8F-F3BFBB7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A3E0-90FF-421B-B6F0-7CFF8F7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8157-96BF-4635-A5C4-1F2B0AE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1B6C-32B6-4DA7-8171-0F7CEAB7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6754-4017-4675-888D-68371813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ECF2-E2F5-4E37-A275-4DBEDB1E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0321-C9BA-4CAE-B9E3-E95FA20A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981C-44EC-461C-9CED-AEF41EF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B05-1EFF-49CA-9DEA-C767CF9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D94D-D32F-4B1D-8F6D-35BF026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E4EF-5512-4242-A5E7-E9A4F9F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8763-ED22-4618-94B3-33606BA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E5D3-00AB-4ABC-BBC2-8C2D987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BD9D-1528-4174-BEF3-1787FF3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5729-B662-4FB8-AEE0-9F637FF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33E0-408E-407A-9636-6D984892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B846-3535-4CBF-9B83-5983D3D5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5830-110E-4A81-8836-2476A695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AA88-E3EC-485C-9073-B45B125B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0D8-589B-414F-944D-F08866A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549C-0929-47B6-A36F-10F410F1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4BF3-38CE-4F91-A55A-1C9E8995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8A34-9E34-4D3C-A2A0-CAE7C5DA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BB0F-BA46-41E8-B9D8-9E785B9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8C8F-BDCE-44A3-9711-1C303843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7E0A-1108-40A6-8495-7F5DB1F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284C-79D0-4043-A9D8-644465B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B349-110B-4860-825E-14596CE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F6CD-F89A-4AF1-98D7-760915A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D702-F63C-425C-92EE-BA1BFCE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0B7-A825-4061-8D20-B3C77FF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179B-3B54-4C80-8BCA-6EE4F2B5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941DD-6690-40BB-A847-370A5EC7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31DF-7934-47C3-9F49-36195DF1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1AD1-1464-4D8A-9DF7-54CF7F4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ADDD-0A13-4FAA-81E7-8F6C99C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335E-8225-4A04-ABD8-F85644B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3C88-D929-45CF-9C59-6C039795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0DE0-78A2-4ED8-AF4C-A918310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4E55-6EDD-46B6-9D00-8D62527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0FC9-A6D8-48F5-972E-62E579F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208-9FCF-4F25-9E24-D50B6F2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4007-7999-43B7-B7C0-E5E442D5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27B1-472F-43D2-8E72-3948F5B7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C689-5AB1-40C9-BA15-08AD9B34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907-2C38-4F32-90F6-160CEFE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0FA-91D0-46CF-8723-45A935E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22F7-60CE-40A2-878E-841B95EFFADF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66B-A3DF-47A8-8A7D-B11FEC3D3DB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932F-6B31-4944-9E7F-ECB81A80AAF7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25E-7A61-40F4-87E7-12FE81A1C154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6D1-C21D-4873-A17A-CE61C00C6515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995-5C46-4EB3-AB11-1FF022166690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79280" y="119700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928800" y="18684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сила, выталкивающая целиком погруженное в жидкость тело, равна весу жидкости в объеме этого т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YouCut_20230225_232000553.mp4" descr=""/>
          <p:cNvPicPr/>
          <p:nvPr/>
        </p:nvPicPr>
        <p:blipFill>
          <a:blip r:embed="rId1"/>
          <a:stretch/>
        </p:blipFill>
        <p:spPr>
          <a:xfrm>
            <a:off x="500040" y="17784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6"/>
          <p:cNvSpPr/>
          <p:nvPr/>
        </p:nvSpPr>
        <p:spPr>
          <a:xfrm>
            <a:off x="3635280" y="1052640"/>
            <a:ext cx="53690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692360" y="1514520"/>
            <a:ext cx="3095640" cy="2281320"/>
          </a:xfrm>
          <a:prstGeom prst="rect">
            <a:avLst/>
          </a:prstGeom>
          <a:solidFill>
            <a:srgbClr val="f6c78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ая соединительная линия 3"/>
          <p:cNvSpPr/>
          <p:nvPr/>
        </p:nvSpPr>
        <p:spPr>
          <a:xfrm>
            <a:off x="1692360" y="112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>
            <a:off x="4788000" y="1125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2843280" y="2708280"/>
            <a:ext cx="1081080" cy="865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трелка вправо 6"/>
          <p:cNvSpPr/>
          <p:nvPr/>
        </p:nvSpPr>
        <p:spPr>
          <a:xfrm rot="5400000">
            <a:off x="5803200" y="2180520"/>
            <a:ext cx="3093840" cy="10094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трелка вниз 7"/>
          <p:cNvSpPr/>
          <p:nvPr/>
        </p:nvSpPr>
        <p:spPr>
          <a:xfrm rot="10800000">
            <a:off x="5407200" y="1736640"/>
            <a:ext cx="1008000" cy="19432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7c4b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5653080" y="2932200"/>
            <a:ext cx="1123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7093080" y="1628640"/>
            <a:ext cx="1008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468360" y="47671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. Найти равнодействующую сил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R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, равную весу тела в жидк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8" descr=""/>
          <p:cNvPicPr/>
          <p:nvPr/>
        </p:nvPicPr>
        <p:blipFill>
          <a:blip r:embed="rId1"/>
          <a:stretch/>
        </p:blipFill>
        <p:spPr>
          <a:xfrm>
            <a:off x="1671480" y="5126040"/>
            <a:ext cx="5561280" cy="216360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349560" y="4183200"/>
            <a:ext cx="79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1.  Расставить силы, действующие на тело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1671480" y="189000"/>
            <a:ext cx="55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ери форму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4591440" y="2781360"/>
            <a:ext cx="4051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Р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5096160" y="4105440"/>
            <a:ext cx="30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4824720" y="5373720"/>
            <a:ext cx="3585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400560" y="-227160"/>
            <a:ext cx="53686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7" descr=""/>
          <p:cNvPicPr/>
          <p:nvPr/>
        </p:nvPicPr>
        <p:blipFill>
          <a:blip r:embed="rId2"/>
          <a:stretch/>
        </p:blipFill>
        <p:spPr>
          <a:xfrm>
            <a:off x="3583080" y="1225440"/>
            <a:ext cx="5560920" cy="2163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28640" y="133200"/>
          <a:ext cx="7834320" cy="3108600"/>
        </p:xfrm>
        <a:graphic>
          <a:graphicData uri="http://schemas.openxmlformats.org/drawingml/2006/table">
            <a:tbl>
              <a:tblPr/>
              <a:tblGrid>
                <a:gridCol w="3917880"/>
                <a:gridCol w="3916440"/>
              </a:tblGrid>
              <a:tr h="97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53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8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3"/>
          <p:cNvSpPr/>
          <p:nvPr/>
        </p:nvSpPr>
        <p:spPr>
          <a:xfrm>
            <a:off x="12556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937040" y="134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03280" y="2046240"/>
            <a:ext cx="324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жид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1644480" y="3241800"/>
            <a:ext cx="6000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P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2648520" y="4200480"/>
            <a:ext cx="37148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2520000" y="5389560"/>
            <a:ext cx="4249800" cy="14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ρ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4862520" y="160200"/>
            <a:ext cx="40384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3480" y="404640"/>
            <a:ext cx="3846240" cy="24559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5" descr=""/>
          <p:cNvPicPr/>
          <p:nvPr/>
        </p:nvPicPr>
        <p:blipFill>
          <a:blip r:embed="rId2"/>
          <a:stretch/>
        </p:blipFill>
        <p:spPr>
          <a:xfrm>
            <a:off x="0" y="3500280"/>
            <a:ext cx="3911760" cy="26035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4619520" y="4299120"/>
            <a:ext cx="4524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2"/>
          <p:cNvSpPr/>
          <p:nvPr/>
        </p:nvSpPr>
        <p:spPr>
          <a:xfrm>
            <a:off x="3634200" y="488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3"/>
          <p:cNvSpPr/>
          <p:nvPr/>
        </p:nvSpPr>
        <p:spPr>
          <a:xfrm>
            <a:off x="285840" y="2108160"/>
            <a:ext cx="86439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выталкивающую силу, действующую на тело объёмом 15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олностью погруженное в рту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826920" y="1185840"/>
            <a:ext cx="3024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5364000" y="1185840"/>
            <a:ext cx="3181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979640" y="260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отве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2627280" y="189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68360" y="1255680"/>
            <a:ext cx="856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какими трудностями вы столкнулись как учены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полезного вы извлекли из данного занят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ой информаци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ым навык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4284720" y="1103400"/>
            <a:ext cx="45720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24000" y="1700280"/>
            <a:ext cx="3624120" cy="23144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3"/>
          <p:cNvSpPr/>
          <p:nvPr/>
        </p:nvSpPr>
        <p:spPr>
          <a:xfrm>
            <a:off x="2523240" y="1890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5" descr=""/>
          <p:cNvPicPr/>
          <p:nvPr/>
        </p:nvPicPr>
        <p:blipFill>
          <a:blip r:embed="rId2"/>
          <a:stretch/>
        </p:blipFill>
        <p:spPr>
          <a:xfrm>
            <a:off x="395280" y="4573440"/>
            <a:ext cx="3384720" cy="2252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5003640" y="4641840"/>
            <a:ext cx="3853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6223" t="0" r="5959" b="0"/>
          <a:stretch/>
        </p:blipFill>
        <p:spPr>
          <a:xfrm>
            <a:off x="1946160" y="782640"/>
            <a:ext cx="4848480" cy="4135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"/>
          <p:cNvSpPr/>
          <p:nvPr/>
        </p:nvSpPr>
        <p:spPr>
          <a:xfrm>
            <a:off x="297000" y="497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те работу в группе до 5 б или от 5-10 б по критер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900000" y="126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есо само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108000" y="5435640"/>
            <a:ext cx="87850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: «Было комфортно работать в составе групп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али дружно, спорили, но не ссорилис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: «Нам было интересно и полезно работать в групп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4572000" y="198900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5292720" y="1700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385128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987640" y="1886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3419640" y="2849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2556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4572000" y="321948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5580000" y="3219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539640" y="18900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п.47, упр.29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"/>
          <p:cNvSpPr/>
          <p:nvPr/>
        </p:nvSpPr>
        <p:spPr>
          <a:xfrm>
            <a:off x="324000" y="1700280"/>
            <a:ext cx="8820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ерить плавает или нет картофель в воде, и что нужно сделать, чтоб картоф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лав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по выбору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ую силу надо приложить, чтобы удержать в воде камень массой 25 кг? Плотность камня равна 2500 к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ри полном погружении в жидкость на тело объемом 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йствует выталкивающая сила, равная 78,4 Н. Какая это жидкос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179280" y="134136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2195640" y="1125360"/>
            <a:ext cx="457200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дкости на тело давя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его все подним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илу созд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Архимедовой зову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считать умеем м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нать лишь вес во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тело выте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кон нам объя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л его великий гре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имя – Архим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3132000" y="101772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Архимедова с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Res" descr="res2B9342A5-C70D-47CC-A3D8-AACB47B44ED6"/>
          <p:cNvPicPr/>
          <p:nvPr/>
        </p:nvPicPr>
        <p:blipFill>
          <a:blip r:embed="rId1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Box 1"/>
          <p:cNvSpPr/>
          <p:nvPr/>
        </p:nvSpPr>
        <p:spPr>
          <a:xfrm>
            <a:off x="611280" y="3096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03.202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50920" y="1071720"/>
          <a:ext cx="8640720" cy="5486400"/>
        </p:xfrm>
        <a:graphic>
          <a:graphicData uri="http://schemas.openxmlformats.org/drawingml/2006/table">
            <a:tbl>
              <a:tblPr/>
              <a:tblGrid>
                <a:gridCol w="2270160"/>
                <a:gridCol w="2338200"/>
                <a:gridCol w="2016360"/>
                <a:gridCol w="201600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а для рас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жидк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т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медова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3"/>
          <p:cNvSpPr/>
          <p:nvPr/>
        </p:nvSpPr>
        <p:spPr>
          <a:xfrm>
            <a:off x="875520" y="285840"/>
            <a:ext cx="75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лните пропуски в табли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1" descr="C:\Users\1\Desktop\cc3b97a4050e68a710b6afa5034dc5bb_54f250441945f439ceaa6d378b4a94e4_156586349572_800px.jpg"/>
          <p:cNvPicPr/>
          <p:nvPr/>
        </p:nvPicPr>
        <p:blipFill>
          <a:blip r:embed="rId1"/>
          <a:stretch/>
        </p:blipFill>
        <p:spPr>
          <a:xfrm>
            <a:off x="2714760" y="3143160"/>
            <a:ext cx="1153800" cy="785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5065560" y="3164040"/>
            <a:ext cx="1285920" cy="785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C:\Users\1\Desktop\1.png"/>
          <p:cNvPicPr/>
          <p:nvPr/>
        </p:nvPicPr>
        <p:blipFill>
          <a:blip r:embed="rId3"/>
          <a:stretch/>
        </p:blipFill>
        <p:spPr>
          <a:xfrm>
            <a:off x="7000920" y="3143160"/>
            <a:ext cx="1500120" cy="7858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5219640" y="422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8" descr="C:\Users\1\Desktop\5.png"/>
          <p:cNvPicPr/>
          <p:nvPr/>
        </p:nvPicPr>
        <p:blipFill>
          <a:blip r:embed="rId4"/>
          <a:stretch/>
        </p:blipFill>
        <p:spPr>
          <a:xfrm>
            <a:off x="2357280" y="4286160"/>
            <a:ext cx="2357640" cy="857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" descr="C:\Users\1\Desktop\6.png"/>
          <p:cNvPicPr/>
          <p:nvPr/>
        </p:nvPicPr>
        <p:blipFill>
          <a:blip r:embed="rId5"/>
          <a:stretch/>
        </p:blipFill>
        <p:spPr>
          <a:xfrm>
            <a:off x="6572160" y="4286160"/>
            <a:ext cx="213840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2"/>
          <p:cNvSpPr/>
          <p:nvPr/>
        </p:nvSpPr>
        <p:spPr>
          <a:xfrm>
            <a:off x="324000" y="1628640"/>
            <a:ext cx="87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формулы для расчета Архимедовой силы и применение ее при решении зада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531720" y="213372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тивно обменивайтесь информацией между соб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вместно делайте вы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ните от вклада каждого участника зависит общий результат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336600" y="204840"/>
            <a:ext cx="85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работы в лаборатор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2273760" y="187200"/>
            <a:ext cx="42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3069360" y="164304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3356640" y="23572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3010320" y="307188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3791160" y="385776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3229560" y="46432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C:\Users\1\Desktop\84a2dbcc16389164bd4552b40ee09a48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6T11:07:46Z</dcterms:created>
  <dc:creator>Учительская</dc:creator>
  <dc:description/>
  <dc:language>en-US</dc:language>
  <cp:lastModifiedBy>1</cp:lastModifiedBy>
  <dcterms:modified xsi:type="dcterms:W3CDTF">2023-02-27T19:00:11Z</dcterms:modified>
  <cp:revision>152</cp:revision>
  <dc:subject/>
  <dc:title>Презентация PowerPoint</dc:title>
</cp:coreProperties>
</file>